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A15-2662-4BF7-B111-7A0638D4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0B1-5015-4484-8DAA-CB871E79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09EC6-DBD0-4192-8CFA-307F404D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47A5-E9D0-4F4B-B31A-200231BA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69325-0433-4387-977B-8B0690C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99B13-CD80-4429-BF0C-EDE912C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FDF7F-F5DD-4EAB-B5D8-4F1A61B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FBD12-E98A-419C-BBE1-17DD869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9008F-90E1-44DD-8A4C-1D6AABC0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CCC05-69B3-452E-A82A-72B1435B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4C8B4-B42D-4830-A0DB-250C15C0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2DF1F-791D-4561-A6D4-142D90DA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38D-5AE7-4465-B0E5-3B289AD5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444CB-40CF-4AD8-A0CD-0F9306B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6F8C9-0CB3-4D88-A744-EF09B8F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98DD7-417B-4DD4-9FF4-70B5965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DFCE4-4711-43DE-B5C4-1DB2D7BE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F0C0B-6066-4F96-8100-CF1F460A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EF7E7-C533-4FB2-8E43-F2867C6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E545B-9C3F-4E95-8080-32B2101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5F182-E55C-47D9-A363-2B6AAD1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98354-3EC8-43D5-AC19-22EE5F2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E925B-B1C5-458E-8502-86A875FA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B33-DDA7-4F7B-8005-F4D79E7C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A2E65-BD97-415E-99CA-DBD66890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3D8DB-C7DE-45C7-8B5B-BC95C29A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D5242-434E-4F1F-AB23-D7F83E0E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D3C16-1409-4946-84D2-EB011C2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9AC09-3230-42D7-BA71-8FD8BC8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627A2-A804-49AD-97B9-3FF9BD0E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7938C-0A03-415D-83CF-D04CE630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E9F1-135F-4276-A85C-ABA5A0C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D2E81-B93D-44F7-9405-63B1F65B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1034F-3AF4-436B-A2D8-5BB7ED9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FC84-D279-454A-98ED-87EDB685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C68E5-311B-4BF4-8448-7DF9EB3E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7DE9-61D7-430D-B8EA-51A54C25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DA284-1FA5-4C2E-9767-3D5221A5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E6A02-11EB-4EAB-91EF-9940FF07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098EE-B0DD-4D51-BB2A-49D55FE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4F5A6-CCE6-4534-9BEC-1CBD3B83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72877-209A-4EDF-A440-9C536E1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6CEC5-1D5C-44EB-BD5D-9CF186B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09CFD-BDA1-48D3-897D-A28F9007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397E3-387C-4C70-8756-58AA1BC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0BE6-B058-468D-BEB7-A869AD11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6E5A9-E583-4384-875F-9229DA3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D809-5B89-4AE0-B57F-E3B302E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A056E-F478-4DA9-A5BD-E4B1665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9A3CB-F0F7-4EB4-99B2-643246B4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33DFC-5CF2-472B-A237-5275874D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3A345-C79A-41FA-A913-2327FF25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DE27E-463D-4F5A-B40F-388F618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1EA1C-3619-44F6-9277-641F537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70E85-B6D4-4757-B8F1-5467113E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FDA3D-E39E-4E31-9E2C-BE815F96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F8A-F55D-4EEF-B429-42F273D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16DEE-5A74-4350-8E5F-1219D52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E0E71-1A19-4CA6-B689-88060FD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2B408-B25A-414F-BA79-0FD7C67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6F206-DA9C-4AA7-A1B7-49BF995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BA234-69CB-4354-A7B1-921F064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84E53-8AE9-4C54-9975-96F19B6D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00ED3-FF5F-445D-9EFB-76C9CED5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AAE88-2511-47B3-BEFC-60ED480E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22745-C920-4E26-98F6-26926DA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58B91-C4B8-4A7E-9F70-65ED977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5ACD-CED6-46CD-B96D-0E5877B7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BCB8D-50B1-4348-843A-CA3B851C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D361E-93A8-493B-8C61-2DA96A78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33662-95D4-44AF-B006-580F315D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6C7A9-2F20-4789-B5E8-F23B4A4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2D52D-3DEE-4406-B91D-53253C9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12485-D7D6-4AF1-8372-ED513BEA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B96ED-7A73-40B3-9A0C-10172A95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2861B-45BB-435C-AE74-23F5D478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4F47B-683D-437E-8096-719282B8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4955A-BD28-4478-AFA6-C5A410FA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DE7-586E-4138-94DE-F572E93E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F54C5-46E5-4BE1-ADAD-533CD81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AC667-0772-4735-B79A-7D278556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FEA09-6EA1-44FB-947E-6C0FC199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A7E48-6644-4278-B880-DD93891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7ECAE-F899-46D7-8F0F-5433083B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3F02E-B5CB-48E1-9006-1921055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88213-3EE0-4082-B93D-B9A8F35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C8469-1565-434D-8EBF-8175BEE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26CCE-15A9-4B11-8FE5-D71ACB2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AE6C1-E153-4C7C-9A3D-495A1014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4124-2264-4DDC-82D6-65C71623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51C2C-FF34-4517-A1B7-BEF41636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2EDCF-0161-4DF3-9280-F49B4D2F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24166-7684-40F9-8A5B-8C725613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8C335-9C3E-46A4-AC5F-3805463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D43DA-30BE-4B26-AE94-274851BD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C5989-F38C-452B-B036-5183057F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AB330-3AAB-42AD-936E-150018BF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17551-7112-4F1D-A01F-63D7AFD1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339C8-6EC8-4933-90F4-904C4CA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83845-41E0-4682-8A85-27E0F79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B1DE-914A-46C2-B3F2-8798CD9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68D53-C571-4E66-906A-541D227D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46401-74AE-4D00-AA2B-69280867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2092A-AE72-4895-96C9-ED27AA20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F0031-88CD-45C7-9579-586A1266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DF5E8-D04A-4F99-9A5A-E4EB903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69A09-B911-4207-B82F-F98A91AD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9F040-B2E9-4723-A473-CF10DA57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446BC-B0E3-493E-8635-A8B3B401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54E47-482F-4962-A9DA-79CC6A3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8CA25-B924-4CC7-A1C6-47DDBFF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288-A21A-4C93-93D7-8924B1A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08E-7797-4E4D-B44C-C93FD69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DCDA7-843B-4D10-B2E2-3842727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B269F-FBC6-4C7F-B297-FB7492FF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863BF-9451-478C-8402-E577FA2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11F78-C2A9-46D8-97C1-B28CA895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F568F-6D55-403A-ACF9-3EC776A1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CE4C2-16BB-4538-A794-80CEC3A3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E5949-5A98-4688-BE79-7BE563A9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4B9C7-8808-4974-BD69-6D3BB7E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EDD19-8148-41EA-AE77-55936A4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38BB0-8800-48E8-B01B-F30BF9D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3856-5DB3-4BCA-8D36-342785F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559ED-0997-48E8-9BA7-D39F84E0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D63F5-F4D8-437A-80CA-609A18C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43482-8F06-4F4B-BA0B-AAD0245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12955-4527-4E66-AFF0-D200CC2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F2085-82B6-42C0-BA84-A27971A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0D102-2CC3-44D3-BFD9-CEA53060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49DEC-7B85-49BA-82D9-F0B4AEC9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0A0E5-A394-49D2-B6AA-B367E8B1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E8E99-FEBF-482A-A2F2-EBC3F99B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47A6C-82AF-4F0D-8FD4-B173CDC3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D267-DD7C-4B85-BBD5-1751C636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6C87B-9977-4EE5-A605-FCEB0406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F8E8D-81E4-4B6B-B220-A71BD8FE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53A1A-E793-41B6-A941-E0602DA0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CF1A4-EB1F-44C3-AC59-B98DF55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E030D-C598-45FB-B041-5AB699F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F2577-BEE0-4339-83C4-6599D37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51C02-1CF9-4B33-AABD-B7005F3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EE898-A6BF-4160-8105-B5168E2E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0F9D6-366A-4966-B066-82A4A7A2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C3CD1-B691-4E99-813E-A63075AC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9352-5679-464B-B1AA-405E8EAC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208F1-47FE-4959-A39F-5995BD9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CBE08-57C4-46D3-B7CB-B97B1520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5DADD-40FF-46C9-956B-E26CEE6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CB1CB-27B3-4662-B8B3-9C43349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F08B3-2A32-475D-8B65-8A147C9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BB7B1-8288-48EB-BAC0-08CECF4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8C9F9-2024-40E4-BBC3-F949DF4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6B2F3-8F9F-46D1-B70D-DE0C1DD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146D9-8EB6-4B44-8DC1-2F48C47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C863A-42F7-4271-B77C-9ADF941B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71EC-D6FB-47D0-9C85-3C35D491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21F98-DB71-4A3B-980D-69216C57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46337-919C-44C0-B118-09ED2952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E7738-31CB-47E3-8597-5FB99EDA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091B5A-E76D-45D8-B512-8E75701A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969E7-E712-48F0-A918-9E791C80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E9785-9B5B-4947-860C-A925154D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857BD-FB8E-4BAD-9B30-32D7CBF9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2404A-7538-4E1D-A15C-38883192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E8C6B-FAB8-47C0-885D-747DA43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2A2BE-B24F-42B8-9AC9-2890751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F382-CBF0-4D21-B83D-56C7F66B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949548-C6CB-45D9-A7FC-01C40E7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BAD8A-FAFE-44DF-BC9C-2D11F1C0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04D29-8869-4011-8A97-E1332308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AAC5-0B14-4318-9906-AB9366E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9143-5163-42D7-8307-FF0371F9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EA7B-B894-4CBD-A19F-0D711EF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D906-F1C6-4CC1-B5C7-66DB6F6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C00-6A6D-422C-A8F0-4C396E5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836B-BBA8-4B42-8D53-348648A0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4786-2DF9-4402-A0A8-9D405C25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6A3B-DFE0-4CE8-902B-F705DD88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10EB-5921-4439-8830-86B910DD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98E7-C762-4902-993F-9771FDC9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D7FF-BFD4-4BA2-8661-5A254860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25E4-EAB9-433E-871F-2721EABC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9DDF-28FB-4DDF-80E2-3242C577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F618-3085-477D-AEB7-50AC872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A9AD-E30D-4631-8C83-F0CEB169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A61-7CC7-4241-8A3A-12DB90F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3B2E-FCEA-44A8-83A8-7744A9E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7BD79-8348-47F5-9C00-EF697FBF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D08F-4B93-4E46-8F42-C8266D8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6DDF-DDE6-4540-97B9-F8708B4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9AEA-64B8-4D61-BD62-C30D795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ADF2-2F4D-491F-9758-4D24D8E2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A61E-993E-4868-9B3B-5954501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3299-28F5-4C24-87F8-3C4C53AC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5F5A-2CB6-4075-B426-71B14AA3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BEBD-827B-4B90-9A73-33EF0D00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B38-F5A9-465F-A0E2-C076A13A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2FCD-54E2-4326-8B9D-1CE3CC6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7FFF-2E4B-4B70-8DE3-AB219DB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923C-ED50-4EB2-A2FC-2398AA2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5EE8-5EC3-41F4-8879-96BEBA4B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D581-AD54-40CF-976B-FC914561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9AF7-837E-47C7-BF7F-CC51598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65FA-AD69-49EC-BA41-1C68AA7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CDED0-B2F2-4ED9-B807-593D68D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0B39-3811-475F-8555-A2847901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FF44-FC88-4ADE-953B-B18FDCBD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BA0-D65C-4DCB-98AF-1F8477C9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E086-47D6-4466-9F2D-97F7090E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0847-53CF-4A13-9FB2-08D17B23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2F65-3F34-4DA7-8904-3EE579EA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7B588-8680-4850-A95B-6B5D40CA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3348-D632-4E0E-8622-ED284411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CE886-1AE2-4685-91D4-C5025999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A156-7A86-404E-8FB6-8E8601FE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52B49-E24E-49BD-B017-304259F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68F3-0892-48E5-8C67-4C59C8B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D780-55D6-46DE-BF0D-C0DF845A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1FA-50D8-46C8-9209-93ADE55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FC76-3C3F-4147-A572-CD0531AE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356D-484C-42A8-BA33-6E0AD4B8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E52F-0EAF-49BA-BAA7-92562DE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FD3A5-43A6-44A8-8203-A30E3A8C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29442-524A-476C-AD38-849486E1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AF4EA-31C1-402B-9B3A-E52AAD6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753C-C64D-41D3-8DEA-EEF13EDA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22510-F7B6-4DF8-9940-AA628517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4EEE8-79F6-42A4-80A5-3C7ECB79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A826-AE6B-4A76-BC64-C4FD1A5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DDF-178B-4C22-B897-B56FF0D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BD30-E551-46E3-BDEC-95542E9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1F0A8-60B8-470D-8BD5-80EABF1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4D2D-4E7D-46D2-9E15-F478B425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0BBF7-08CB-4C01-9658-78C6D581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2979-D15A-4AC3-8A76-3BC44074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844B-CBDB-4526-A24C-E4B50686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ECF0B-0B4F-4950-8FAA-7C40D19B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669FA-3F17-4F79-BEF0-2782F2D6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AE99-C3A3-49C9-9DBB-27571E09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2A1E-6BE9-4362-B5ED-1EAF58F3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6AE-31F7-403E-8A84-25AD68B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A49A4-465F-4F4B-8A9C-5CD22DDA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CE482-CB6F-4E2A-B326-E918E14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8A9D-C230-493C-8C11-BE15B352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3A24-6407-49B3-95AE-F0E63AB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CF3E-05E3-4401-AFF4-B7CEB7BA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A1E02-9268-4A90-B310-42E162E9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10CB-960B-4A08-A1CF-F8BF2658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5CCD-BC32-407C-96D9-6447FD7A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E35B5-EF1B-44A3-81B4-91D3444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5DB62-6A4B-4D8E-92DB-440A804E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866-EF8D-4EF7-A909-70F6734317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01A7-0C27-4B66-BC37-838BB8A5F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135E-9F59-415D-A4CB-CB419E838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E53-587F-4C2C-B053-CB5189194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B2A-CB3D-4CF7-877F-67B289B47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D4F-B115-44BD-9D8B-4BA79EB87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BAD1-B79E-44CB-8157-C41E25B70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30A8-7640-41C2-BA64-C6792DEDF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B43-A297-4D9C-A5CE-57C5F6153F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BE7-8F3A-43A4-BC0D-9B845A396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4055-7B05-4CFD-B490-7560EC5DD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8744-4451-4F24-BB6E-B6B4CF6013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8B5D-4919-4486-BF7A-D9FEB9BD94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E8FC-9722-4125-9E19-1B1D620E4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568-5511-43A1-B50B-2CDFAF64D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FDF6-5A2D-4BD4-9CE9-A100ACB50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ECE7-1CC1-4CC6-A199-213ECDB067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599-AFC9-48CC-AC0B-CB3B5788F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644-9708-44E5-B246-992DA6A2C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764D-CE93-4B3C-9558-6541D3740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CFA3-6804-4524-B82F-1532EA3BA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396-48A2-4379-8F00-772A29E44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D20-056E-4C47-9EF0-18338B2104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9621-993A-4731-87D3-A64D707FF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FE0B-3768-4058-87AE-15E310709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F34B-AC93-4172-8585-1E576B54A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40F8-B9F2-4A18-9932-B77B65244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7303-356C-41FA-8FE5-AA2DA2A9AC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C49-9407-414C-9B49-C2CF0A248F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568-E825-405F-93D1-6FFEAEEE4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5DA-F3DC-47C3-9CBD-93AC72F95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5E31-4045-4408-B089-A93DD6150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4A1-9C93-4C6D-80C7-24DE43B8E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B01B-4B06-4F68-8596-76BD6CE3F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4D6-994A-4D0E-A066-A34A29316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3DB5-24C8-48D8-BDAE-D70587132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B758-780B-49F2-8F5F-7FF5176F8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BAFA-52CE-40ED-B2E3-8E05326F9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828F-3C70-4B2A-AD5D-52B5A85C0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5D47-2B02-4E34-B3DE-8F651596F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1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600720" cy="95256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2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334040" cy="73368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28684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6400800" cy="6285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8685" descr=""/>
          <p:cNvPicPr/>
          <p:nvPr/>
        </p:nvPicPr>
        <p:blipFill>
          <a:blip r:embed="rId4"/>
          <a:stretch/>
        </p:blipFill>
        <p:spPr>
          <a:xfrm>
            <a:off x="2195640" y="4508640"/>
            <a:ext cx="483840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14689" descr=""/>
          <p:cNvPicPr/>
          <p:nvPr/>
        </p:nvPicPr>
        <p:blipFill>
          <a:blip r:embed="rId1"/>
          <a:stretch/>
        </p:blipFill>
        <p:spPr>
          <a:xfrm>
            <a:off x="447840" y="1514520"/>
            <a:ext cx="8248320" cy="3828960"/>
          </a:xfrm>
          <a:prstGeom prst="rect">
            <a:avLst/>
          </a:prstGeom>
          <a:ln w="0">
            <a:noFill/>
          </a:ln>
        </p:spPr>
      </p:pic>
      <p:sp>
        <p:nvSpPr>
          <p:cNvPr id="1081" name="矩形 114690"/>
          <p:cNvSpPr/>
          <p:nvPr/>
        </p:nvSpPr>
        <p:spPr>
          <a:xfrm>
            <a:off x="7867800" y="1681200"/>
            <a:ext cx="5079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113665" descr=""/>
          <p:cNvPicPr/>
          <p:nvPr/>
        </p:nvPicPr>
        <p:blipFill>
          <a:blip r:embed="rId1"/>
          <a:stretch/>
        </p:blipFill>
        <p:spPr>
          <a:xfrm>
            <a:off x="438120" y="1571760"/>
            <a:ext cx="8267760" cy="3714480"/>
          </a:xfrm>
          <a:prstGeom prst="rect">
            <a:avLst/>
          </a:prstGeom>
          <a:ln w="0">
            <a:noFill/>
          </a:ln>
        </p:spPr>
      </p:pic>
      <p:sp>
        <p:nvSpPr>
          <p:cNvPr id="1083" name="矩形 113666"/>
          <p:cNvSpPr/>
          <p:nvPr/>
        </p:nvSpPr>
        <p:spPr>
          <a:xfrm>
            <a:off x="7854840" y="3573360"/>
            <a:ext cx="5079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112641" descr=""/>
          <p:cNvPicPr/>
          <p:nvPr/>
        </p:nvPicPr>
        <p:blipFill>
          <a:blip r:embed="rId1"/>
          <a:stretch/>
        </p:blipFill>
        <p:spPr>
          <a:xfrm>
            <a:off x="447840" y="1252440"/>
            <a:ext cx="8248320" cy="4353120"/>
          </a:xfrm>
          <a:prstGeom prst="rect">
            <a:avLst/>
          </a:prstGeom>
          <a:ln w="0">
            <a:noFill/>
          </a:ln>
        </p:spPr>
      </p:pic>
      <p:sp>
        <p:nvSpPr>
          <p:cNvPr id="1085" name="矩形 112642"/>
          <p:cNvSpPr/>
          <p:nvPr/>
        </p:nvSpPr>
        <p:spPr>
          <a:xfrm>
            <a:off x="7804080" y="2049480"/>
            <a:ext cx="5079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111617" descr=""/>
          <p:cNvPicPr/>
          <p:nvPr/>
        </p:nvPicPr>
        <p:blipFill>
          <a:blip r:embed="rId1"/>
          <a:stretch/>
        </p:blipFill>
        <p:spPr>
          <a:xfrm>
            <a:off x="514440" y="1405080"/>
            <a:ext cx="8115120" cy="4047840"/>
          </a:xfrm>
          <a:prstGeom prst="rect">
            <a:avLst/>
          </a:prstGeom>
          <a:ln w="0">
            <a:noFill/>
          </a:ln>
        </p:spPr>
      </p:pic>
      <p:sp>
        <p:nvSpPr>
          <p:cNvPr id="1087" name="矩形 111618"/>
          <p:cNvSpPr/>
          <p:nvPr/>
        </p:nvSpPr>
        <p:spPr>
          <a:xfrm>
            <a:off x="7791480" y="2062080"/>
            <a:ext cx="5079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110593" descr=""/>
          <p:cNvPicPr/>
          <p:nvPr/>
        </p:nvPicPr>
        <p:blipFill>
          <a:blip r:embed="rId1"/>
          <a:stretch/>
        </p:blipFill>
        <p:spPr>
          <a:xfrm>
            <a:off x="447840" y="1085760"/>
            <a:ext cx="8248320" cy="4686480"/>
          </a:xfrm>
          <a:prstGeom prst="rect">
            <a:avLst/>
          </a:prstGeom>
          <a:ln w="0">
            <a:noFill/>
          </a:ln>
        </p:spPr>
      </p:pic>
      <p:sp>
        <p:nvSpPr>
          <p:cNvPr id="1089" name="矩形 110594"/>
          <p:cNvSpPr/>
          <p:nvPr/>
        </p:nvSpPr>
        <p:spPr>
          <a:xfrm>
            <a:off x="4083120" y="4691160"/>
            <a:ext cx="1352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10595"/>
          <p:cNvSpPr/>
          <p:nvPr/>
        </p:nvSpPr>
        <p:spPr>
          <a:xfrm>
            <a:off x="6762600" y="4703760"/>
            <a:ext cx="135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110596"/>
          <p:cNvSpPr/>
          <p:nvPr/>
        </p:nvSpPr>
        <p:spPr>
          <a:xfrm>
            <a:off x="1758960" y="5313240"/>
            <a:ext cx="1352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109569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91440" cy="5333760"/>
          </a:xfrm>
          <a:prstGeom prst="rect">
            <a:avLst/>
          </a:prstGeom>
          <a:ln w="0">
            <a:noFill/>
          </a:ln>
        </p:spPr>
      </p:pic>
      <p:sp>
        <p:nvSpPr>
          <p:cNvPr id="1093" name="矩形 109570"/>
          <p:cNvSpPr/>
          <p:nvPr/>
        </p:nvSpPr>
        <p:spPr>
          <a:xfrm>
            <a:off x="5442120" y="2840040"/>
            <a:ext cx="5079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109571"/>
          <p:cNvSpPr/>
          <p:nvPr/>
        </p:nvSpPr>
        <p:spPr>
          <a:xfrm>
            <a:off x="4387680" y="3398760"/>
            <a:ext cx="508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109572"/>
          <p:cNvSpPr/>
          <p:nvPr/>
        </p:nvSpPr>
        <p:spPr>
          <a:xfrm>
            <a:off x="5556240" y="4021200"/>
            <a:ext cx="5079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109573"/>
          <p:cNvSpPr/>
          <p:nvPr/>
        </p:nvSpPr>
        <p:spPr>
          <a:xfrm>
            <a:off x="2089080" y="4630680"/>
            <a:ext cx="32036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109574"/>
          <p:cNvSpPr/>
          <p:nvPr/>
        </p:nvSpPr>
        <p:spPr>
          <a:xfrm>
            <a:off x="5416560" y="5214960"/>
            <a:ext cx="5079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109575"/>
          <p:cNvSpPr/>
          <p:nvPr/>
        </p:nvSpPr>
        <p:spPr>
          <a:xfrm>
            <a:off x="1962000" y="5811840"/>
            <a:ext cx="23227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108545" descr=""/>
          <p:cNvPicPr/>
          <p:nvPr/>
        </p:nvPicPr>
        <p:blipFill>
          <a:blip r:embed="rId1"/>
          <a:stretch/>
        </p:blipFill>
        <p:spPr>
          <a:xfrm>
            <a:off x="614520" y="2790720"/>
            <a:ext cx="7914960" cy="1276560"/>
          </a:xfrm>
          <a:prstGeom prst="rect">
            <a:avLst/>
          </a:prstGeom>
          <a:ln w="0">
            <a:noFill/>
          </a:ln>
        </p:spPr>
      </p:pic>
      <p:sp>
        <p:nvSpPr>
          <p:cNvPr id="1100" name="矩形 108546"/>
          <p:cNvSpPr/>
          <p:nvPr/>
        </p:nvSpPr>
        <p:spPr>
          <a:xfrm>
            <a:off x="5759280" y="2925720"/>
            <a:ext cx="5083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08547"/>
          <p:cNvSpPr/>
          <p:nvPr/>
        </p:nvSpPr>
        <p:spPr>
          <a:xfrm>
            <a:off x="2279520" y="3370320"/>
            <a:ext cx="351648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图片 10752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103" name="矩形 107522"/>
          <p:cNvSpPr/>
          <p:nvPr/>
        </p:nvSpPr>
        <p:spPr>
          <a:xfrm>
            <a:off x="7689960" y="3916440"/>
            <a:ext cx="50796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图片 106497" descr=""/>
          <p:cNvPicPr/>
          <p:nvPr/>
        </p:nvPicPr>
        <p:blipFill>
          <a:blip r:embed="rId1"/>
          <a:stretch/>
        </p:blipFill>
        <p:spPr>
          <a:xfrm>
            <a:off x="843120" y="2176560"/>
            <a:ext cx="74577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22882" descr=""/>
          <p:cNvPicPr/>
          <p:nvPr/>
        </p:nvPicPr>
        <p:blipFill>
          <a:blip r:embed="rId1"/>
          <a:stretch/>
        </p:blipFill>
        <p:spPr>
          <a:xfrm>
            <a:off x="338040" y="1062000"/>
            <a:ext cx="8467920" cy="47340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122883"/>
          <p:cNvSpPr/>
          <p:nvPr/>
        </p:nvSpPr>
        <p:spPr>
          <a:xfrm>
            <a:off x="2124000" y="285264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122884"/>
          <p:cNvSpPr/>
          <p:nvPr/>
        </p:nvSpPr>
        <p:spPr>
          <a:xfrm>
            <a:off x="5210280" y="285264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22885"/>
          <p:cNvSpPr/>
          <p:nvPr/>
        </p:nvSpPr>
        <p:spPr>
          <a:xfrm>
            <a:off x="7369200" y="285264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22886"/>
          <p:cNvSpPr/>
          <p:nvPr/>
        </p:nvSpPr>
        <p:spPr>
          <a:xfrm>
            <a:off x="2340000" y="358920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22887"/>
          <p:cNvSpPr/>
          <p:nvPr/>
        </p:nvSpPr>
        <p:spPr>
          <a:xfrm>
            <a:off x="5413320" y="360216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22888"/>
          <p:cNvSpPr/>
          <p:nvPr/>
        </p:nvSpPr>
        <p:spPr>
          <a:xfrm>
            <a:off x="7686720" y="361476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22889"/>
          <p:cNvSpPr/>
          <p:nvPr/>
        </p:nvSpPr>
        <p:spPr>
          <a:xfrm>
            <a:off x="1108080" y="4427640"/>
            <a:ext cx="441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2890"/>
          <p:cNvSpPr/>
          <p:nvPr/>
        </p:nvSpPr>
        <p:spPr>
          <a:xfrm>
            <a:off x="2085840" y="4427640"/>
            <a:ext cx="5414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22891"/>
          <p:cNvSpPr/>
          <p:nvPr/>
        </p:nvSpPr>
        <p:spPr>
          <a:xfrm>
            <a:off x="3013200" y="4427640"/>
            <a:ext cx="8380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22892"/>
          <p:cNvSpPr/>
          <p:nvPr/>
        </p:nvSpPr>
        <p:spPr>
          <a:xfrm>
            <a:off x="1870200" y="4808520"/>
            <a:ext cx="5410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22893"/>
          <p:cNvSpPr/>
          <p:nvPr/>
        </p:nvSpPr>
        <p:spPr>
          <a:xfrm>
            <a:off x="1527120" y="5176800"/>
            <a:ext cx="54144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22894"/>
          <p:cNvSpPr/>
          <p:nvPr/>
        </p:nvSpPr>
        <p:spPr>
          <a:xfrm>
            <a:off x="4435560" y="4287960"/>
            <a:ext cx="5410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22895"/>
          <p:cNvSpPr/>
          <p:nvPr/>
        </p:nvSpPr>
        <p:spPr>
          <a:xfrm>
            <a:off x="5743440" y="4287960"/>
            <a:ext cx="1204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22896"/>
          <p:cNvSpPr/>
          <p:nvPr/>
        </p:nvSpPr>
        <p:spPr>
          <a:xfrm>
            <a:off x="4664160" y="4630680"/>
            <a:ext cx="844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22897"/>
          <p:cNvSpPr/>
          <p:nvPr/>
        </p:nvSpPr>
        <p:spPr>
          <a:xfrm>
            <a:off x="5997600" y="4643280"/>
            <a:ext cx="80640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22898"/>
          <p:cNvSpPr/>
          <p:nvPr/>
        </p:nvSpPr>
        <p:spPr>
          <a:xfrm>
            <a:off x="5451480" y="4998960"/>
            <a:ext cx="48888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22899"/>
          <p:cNvSpPr/>
          <p:nvPr/>
        </p:nvSpPr>
        <p:spPr>
          <a:xfrm>
            <a:off x="6416640" y="4998960"/>
            <a:ext cx="48888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22900"/>
          <p:cNvSpPr/>
          <p:nvPr/>
        </p:nvSpPr>
        <p:spPr>
          <a:xfrm>
            <a:off x="4282920" y="5354640"/>
            <a:ext cx="48924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22901"/>
          <p:cNvSpPr/>
          <p:nvPr/>
        </p:nvSpPr>
        <p:spPr>
          <a:xfrm>
            <a:off x="5489640" y="5354640"/>
            <a:ext cx="5950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22902"/>
          <p:cNvSpPr/>
          <p:nvPr/>
        </p:nvSpPr>
        <p:spPr>
          <a:xfrm>
            <a:off x="8388360" y="4653000"/>
            <a:ext cx="287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22903"/>
          <p:cNvSpPr/>
          <p:nvPr/>
        </p:nvSpPr>
        <p:spPr>
          <a:xfrm>
            <a:off x="7039080" y="4998960"/>
            <a:ext cx="2318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21857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77280" cy="131472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121859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8496000" cy="10573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121860"/>
          <p:cNvSpPr/>
          <p:nvPr/>
        </p:nvSpPr>
        <p:spPr>
          <a:xfrm>
            <a:off x="1301760" y="1731960"/>
            <a:ext cx="60624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21861"/>
          <p:cNvSpPr/>
          <p:nvPr/>
        </p:nvSpPr>
        <p:spPr>
          <a:xfrm>
            <a:off x="1111320" y="2087640"/>
            <a:ext cx="60624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21862"/>
          <p:cNvSpPr/>
          <p:nvPr/>
        </p:nvSpPr>
        <p:spPr>
          <a:xfrm>
            <a:off x="2584440" y="2100240"/>
            <a:ext cx="7635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21863"/>
          <p:cNvSpPr/>
          <p:nvPr/>
        </p:nvSpPr>
        <p:spPr>
          <a:xfrm>
            <a:off x="4654440" y="1731960"/>
            <a:ext cx="565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21864"/>
          <p:cNvSpPr/>
          <p:nvPr/>
        </p:nvSpPr>
        <p:spPr>
          <a:xfrm>
            <a:off x="5734080" y="1731960"/>
            <a:ext cx="9255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21870"/>
          <p:cNvSpPr/>
          <p:nvPr/>
        </p:nvSpPr>
        <p:spPr>
          <a:xfrm>
            <a:off x="4324320" y="2087640"/>
            <a:ext cx="6066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21871"/>
          <p:cNvSpPr/>
          <p:nvPr/>
        </p:nvSpPr>
        <p:spPr>
          <a:xfrm>
            <a:off x="1962000" y="4056120"/>
            <a:ext cx="6066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21872"/>
          <p:cNvSpPr/>
          <p:nvPr/>
        </p:nvSpPr>
        <p:spPr>
          <a:xfrm>
            <a:off x="5099040" y="4068720"/>
            <a:ext cx="12016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21875"/>
          <p:cNvSpPr/>
          <p:nvPr/>
        </p:nvSpPr>
        <p:spPr>
          <a:xfrm>
            <a:off x="1149480" y="4398840"/>
            <a:ext cx="6062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21876"/>
          <p:cNvSpPr/>
          <p:nvPr/>
        </p:nvSpPr>
        <p:spPr>
          <a:xfrm>
            <a:off x="4643280" y="4390920"/>
            <a:ext cx="15843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121877"/>
          <p:cNvSpPr/>
          <p:nvPr/>
        </p:nvSpPr>
        <p:spPr>
          <a:xfrm>
            <a:off x="6751800" y="4390920"/>
            <a:ext cx="120492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20833" descr=""/>
          <p:cNvPicPr/>
          <p:nvPr/>
        </p:nvPicPr>
        <p:blipFill>
          <a:blip r:embed="rId1"/>
          <a:stretch/>
        </p:blipFill>
        <p:spPr>
          <a:xfrm>
            <a:off x="328680" y="2343240"/>
            <a:ext cx="8486640" cy="2171520"/>
          </a:xfrm>
          <a:prstGeom prst="rect">
            <a:avLst/>
          </a:prstGeom>
          <a:ln w="0">
            <a:noFill/>
          </a:ln>
        </p:spPr>
      </p:pic>
      <p:sp>
        <p:nvSpPr>
          <p:cNvPr id="1062" name="矩形 120834"/>
          <p:cNvSpPr/>
          <p:nvPr/>
        </p:nvSpPr>
        <p:spPr>
          <a:xfrm>
            <a:off x="8172360" y="3586320"/>
            <a:ext cx="287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119809" descr=""/>
          <p:cNvPicPr/>
          <p:nvPr/>
        </p:nvPicPr>
        <p:blipFill>
          <a:blip r:embed="rId1"/>
          <a:stretch/>
        </p:blipFill>
        <p:spPr>
          <a:xfrm>
            <a:off x="295200" y="1714680"/>
            <a:ext cx="8553600" cy="3429000"/>
          </a:xfrm>
          <a:prstGeom prst="rect">
            <a:avLst/>
          </a:prstGeom>
          <a:ln w="0">
            <a:noFill/>
          </a:ln>
        </p:spPr>
      </p:pic>
      <p:sp>
        <p:nvSpPr>
          <p:cNvPr id="1064" name="矩形 119810"/>
          <p:cNvSpPr/>
          <p:nvPr/>
        </p:nvSpPr>
        <p:spPr>
          <a:xfrm>
            <a:off x="2546280" y="3751200"/>
            <a:ext cx="51300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19811"/>
          <p:cNvSpPr/>
          <p:nvPr/>
        </p:nvSpPr>
        <p:spPr>
          <a:xfrm>
            <a:off x="7588080" y="3776760"/>
            <a:ext cx="10875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19812"/>
          <p:cNvSpPr/>
          <p:nvPr/>
        </p:nvSpPr>
        <p:spPr>
          <a:xfrm>
            <a:off x="882720" y="4119480"/>
            <a:ext cx="18176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19813"/>
          <p:cNvSpPr/>
          <p:nvPr/>
        </p:nvSpPr>
        <p:spPr>
          <a:xfrm>
            <a:off x="4222800" y="4437000"/>
            <a:ext cx="85392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19814"/>
          <p:cNvSpPr/>
          <p:nvPr/>
        </p:nvSpPr>
        <p:spPr>
          <a:xfrm>
            <a:off x="3092400" y="4780080"/>
            <a:ext cx="14083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18785" descr=""/>
          <p:cNvPicPr/>
          <p:nvPr/>
        </p:nvPicPr>
        <p:blipFill>
          <a:blip r:embed="rId1"/>
          <a:stretch/>
        </p:blipFill>
        <p:spPr>
          <a:xfrm>
            <a:off x="371520" y="2395440"/>
            <a:ext cx="8400960" cy="2067120"/>
          </a:xfrm>
          <a:prstGeom prst="rect">
            <a:avLst/>
          </a:prstGeom>
          <a:ln w="0">
            <a:noFill/>
          </a:ln>
        </p:spPr>
      </p:pic>
      <p:sp>
        <p:nvSpPr>
          <p:cNvPr id="1070" name="矩形 118786"/>
          <p:cNvSpPr/>
          <p:nvPr/>
        </p:nvSpPr>
        <p:spPr>
          <a:xfrm>
            <a:off x="8096400" y="2379600"/>
            <a:ext cx="5079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117761" descr=""/>
          <p:cNvPicPr/>
          <p:nvPr/>
        </p:nvPicPr>
        <p:blipFill>
          <a:blip r:embed="rId1"/>
          <a:stretch/>
        </p:blipFill>
        <p:spPr>
          <a:xfrm>
            <a:off x="423720" y="1157400"/>
            <a:ext cx="8296560" cy="4543200"/>
          </a:xfrm>
          <a:prstGeom prst="rect">
            <a:avLst/>
          </a:prstGeom>
          <a:ln w="0">
            <a:noFill/>
          </a:ln>
        </p:spPr>
      </p:pic>
      <p:sp>
        <p:nvSpPr>
          <p:cNvPr id="1072" name="矩形 117762"/>
          <p:cNvSpPr/>
          <p:nvPr/>
        </p:nvSpPr>
        <p:spPr>
          <a:xfrm>
            <a:off x="7885080" y="2624040"/>
            <a:ext cx="5079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16737" descr=""/>
          <p:cNvPicPr/>
          <p:nvPr/>
        </p:nvPicPr>
        <p:blipFill>
          <a:blip r:embed="rId1"/>
          <a:stretch/>
        </p:blipFill>
        <p:spPr>
          <a:xfrm>
            <a:off x="419040" y="1200240"/>
            <a:ext cx="8305920" cy="4457520"/>
          </a:xfrm>
          <a:prstGeom prst="rect">
            <a:avLst/>
          </a:prstGeom>
          <a:ln w="0">
            <a:noFill/>
          </a:ln>
        </p:spPr>
      </p:pic>
      <p:sp>
        <p:nvSpPr>
          <p:cNvPr id="1074" name="矩形 116738"/>
          <p:cNvSpPr/>
          <p:nvPr/>
        </p:nvSpPr>
        <p:spPr>
          <a:xfrm>
            <a:off x="3232080" y="2519280"/>
            <a:ext cx="908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116739"/>
          <p:cNvSpPr/>
          <p:nvPr/>
        </p:nvSpPr>
        <p:spPr>
          <a:xfrm>
            <a:off x="5251320" y="3218040"/>
            <a:ext cx="908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116740"/>
          <p:cNvSpPr/>
          <p:nvPr/>
        </p:nvSpPr>
        <p:spPr>
          <a:xfrm>
            <a:off x="6508800" y="3840120"/>
            <a:ext cx="907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16741"/>
          <p:cNvSpPr/>
          <p:nvPr/>
        </p:nvSpPr>
        <p:spPr>
          <a:xfrm>
            <a:off x="3854520" y="4487760"/>
            <a:ext cx="907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115713" descr=""/>
          <p:cNvPicPr/>
          <p:nvPr/>
        </p:nvPicPr>
        <p:blipFill>
          <a:blip r:embed="rId1"/>
          <a:stretch/>
        </p:blipFill>
        <p:spPr>
          <a:xfrm>
            <a:off x="404640" y="1862280"/>
            <a:ext cx="8334720" cy="3133440"/>
          </a:xfrm>
          <a:prstGeom prst="rect">
            <a:avLst/>
          </a:prstGeom>
          <a:ln w="0">
            <a:noFill/>
          </a:ln>
        </p:spPr>
      </p:pic>
      <p:sp>
        <p:nvSpPr>
          <p:cNvPr id="1079" name="矩形 115714"/>
          <p:cNvSpPr/>
          <p:nvPr/>
        </p:nvSpPr>
        <p:spPr>
          <a:xfrm>
            <a:off x="7854840" y="3929040"/>
            <a:ext cx="5079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9:0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